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82D9-E611-4DD1-BE99-361346F85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AC05-593C-4173-BDF6-01FC0F79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6A78-1E6A-4744-BF72-7736BA6ED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DD07-4C31-446F-B866-8AAF07BD1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8C45-8782-4049-BD3B-D4265567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9606-8D87-486A-8F5D-1CB15138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908A-6924-46A9-B5E4-57C4177D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07BE-B3BA-44D7-AFC6-45C3FFDE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F316-0068-4D23-B033-86B0DB8E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E8BA-4F02-4114-800B-6089AD12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9D9D-423E-4869-AAF4-1A69097C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11CE-7431-4292-960A-810972B5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DB0D-7C51-4D0F-8C14-DCC33669F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3:55:46Z</dcterms:created>
  <dc:creator>INVES-S6600A</dc:creator>
  <dc:description/>
  <dc:language>en-US</dc:language>
  <cp:lastModifiedBy>INVES-S6600A</cp:lastModifiedBy>
  <dcterms:modified xsi:type="dcterms:W3CDTF">2010-11-23T13:56:00Z</dcterms:modified>
  <cp:revision>1</cp:revision>
  <dc:subject/>
  <dc:title>Diapositiva 1</dc:title>
</cp:coreProperties>
</file>